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38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56776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002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38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56776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42E0-BBFF-4D47-87E6-09F3DFDF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D62-6EF3-4B0D-AA62-C417155B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4CF-8DD3-411D-BB68-11186EE7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0A0-FAAE-43F2-8405-31B52D9B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6B24-CF32-4AC9-9D14-C6AA1C89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563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E313-4152-4A6C-A8E7-66EBD11C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8127-BE39-4B5E-AB87-7ACD1650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AD91-6667-4C9F-B541-F74DDDA1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22B-CE9F-4CA4-ABDA-83B1971A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5E81-D167-499C-85A8-C58F20AF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12F-58C4-46F4-8BE4-C9013C6C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838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56776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002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838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56776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7D00-E0FA-4C2E-A407-CD025863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563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3" marL="1568160" indent="-223920">
              <a:spcBef>
                <a:spcPts val="7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4" marL="2016000" indent="-223920">
              <a:spcBef>
                <a:spcPts val="700"/>
              </a:spcBef>
              <a:buClr>
                <a:srgbClr val="070c1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5" marL="2016000" indent="-22392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6" marL="2016000" indent="-22392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01520" y="165240"/>
            <a:ext cx="9194400" cy="6692760"/>
            <a:chOff x="101520" y="165240"/>
            <a:chExt cx="9194400" cy="6692760"/>
          </a:xfrm>
        </p:grpSpPr>
        <p:sp>
          <p:nvSpPr>
            <p:cNvPr id="3" name=""/>
            <p:cNvSpPr/>
            <p:nvPr/>
          </p:nvSpPr>
          <p:spPr>
            <a:xfrm>
              <a:off x="101520" y="165240"/>
              <a:ext cx="623160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73240" y="304920"/>
              <a:ext cx="632160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6250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43120" y="1079640"/>
              <a:ext cx="845280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6553080" y="6553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0c13"/>
                </a:solidFill>
                <a:latin typeface="Arial"/>
                <a:ea typeface="Arial"/>
              </a:rPr>
              <a:t>Copyright © Allyn &amp; Bacon 2008</a:t>
            </a:r>
            <a:endParaRPr b="0" lang="en-US" sz="10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FD7A-B524-460F-BB43-F3D7F186294E}" type="slidenum"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9" name="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70c1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476440" y="388584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4523b"/>
                </a:solidFill>
                <a:latin typeface="Arial"/>
              </a:rPr>
              <a:t>Sociology Now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523b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34523b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34523b"/>
                </a:solidFill>
                <a:latin typeface="Arial"/>
              </a:rPr>
              <a:t> Edition (Brief)</a:t>
            </a: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523b"/>
                </a:solidFill>
                <a:latin typeface="Arial"/>
              </a:rPr>
              <a:t>Kimmel/Aronson</a:t>
            </a: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24852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70c13"/>
                </a:solidFill>
                <a:latin typeface="Arial"/>
              </a:rPr>
              <a:t>*This multimedia product and its contents are protected under copyright law. The following are prohibited by law: any public performances or display, including transmission of any image over a network; preparation of any derivative work, including the extraction, in whole or in part, of any images; any rental, lease, or lending of the program.</a:t>
            </a:r>
            <a:endParaRPr b="0" lang="en-US" sz="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ocialization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082960"/>
            <a:ext cx="40766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c13"/>
                </a:solidFill>
                <a:latin typeface="Arial"/>
              </a:rPr>
              <a:t>Deviance and Crime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990720"/>
            <a:ext cx="12445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70c13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121932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c13"/>
                </a:solidFill>
                <a:latin typeface="Arial"/>
              </a:rPr>
              <a:t>c h a p t e</a:t>
            </a:r>
            <a:r>
              <a:rPr b="0" lang="en-US" sz="18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70c13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35840" y="2247840"/>
            <a:ext cx="17017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638000" y="1523880"/>
            <a:ext cx="56134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Should someone who is against all church and religion be allowed to teach at a college or university, or not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Allowed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Not Allowed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*from What Do You Think? box in text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85960" y="-12600"/>
            <a:ext cx="59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Broadway"/>
              </a:rPr>
              <a:t>Question #1</a:t>
            </a:r>
            <a:endParaRPr b="0" lang="en-US" sz="6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638000" y="1523880"/>
            <a:ext cx="56134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Should a person who believes Blacks are genetically inferior be allowed to teach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Allowed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Not Allowed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*from What Do You Think? box in text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85960" y="-12600"/>
            <a:ext cx="59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Broadway"/>
              </a:rPr>
              <a:t>Question #2</a:t>
            </a:r>
            <a:endParaRPr b="0" lang="en-US" sz="6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36840" y="1422360"/>
            <a:ext cx="59054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How do you feel about public nudity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It is immoral and should never be allowed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It is okay as long as it is contained within specific boundarie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It should be allowed anytime, anywher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960" y="-12600"/>
            <a:ext cx="59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Broadway"/>
              </a:rPr>
              <a:t>Question #3</a:t>
            </a:r>
            <a:endParaRPr b="0" lang="en-US" sz="6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638000" y="1523880"/>
            <a:ext cx="56134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If you lie down with dogs, you wake up with fleas.”  This phrase is closely related to what theory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Strain theor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Human capital theor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Anomie theor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Differential association theor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960" y="-12600"/>
            <a:ext cx="59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Broadway"/>
              </a:rPr>
              <a:t>Question #4</a:t>
            </a:r>
            <a:endParaRPr b="0" lang="en-US" sz="6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638000" y="1523880"/>
            <a:ext cx="56134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Do you favor or oppose the death penalty for person’s convicted of murder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Favor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Oppos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*included in Instructor’s Manual only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5960" y="-12600"/>
            <a:ext cx="59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Broadway"/>
              </a:rPr>
              <a:t>Question #5</a:t>
            </a:r>
            <a:endParaRPr b="0" lang="en-US" sz="6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638000" y="1523880"/>
            <a:ext cx="56134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If someone is broke and they have hungry children at home and they steal food to survive, should they punished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Yes, the law is the law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No, they need other forms of interventio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85960" y="-12600"/>
            <a:ext cx="59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Broadway"/>
              </a:rPr>
              <a:t>Question #6</a:t>
            </a:r>
            <a:endParaRPr b="0" lang="en-US" sz="6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03:21:37Z</dcterms:created>
  <dc:creator>TRIO</dc:creator>
  <dc:description/>
  <cp:keywords/>
  <dc:language>en-US</dc:language>
  <cp:lastModifiedBy>Lauren Blish Houlihan</cp:lastModifiedBy>
  <dcterms:modified xsi:type="dcterms:W3CDTF">2008-06-05T20:13:44Z</dcterms:modified>
  <cp:revision>9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